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83C-4F36-4076-9192-A45733DD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9DC-C361-4BA6-B0AD-99CAB7CA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4F0-59E5-4DBB-B9C4-D9FF6918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F22-56F5-488F-9FA4-F442B9E8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546-7306-4296-861F-8FA165CF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54E-4215-45C9-90A1-6BB154CE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FB7-2A5B-46B2-818B-F4FBF901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776-83E8-4008-8318-CFB840FD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A04-2F06-420E-A462-661853CA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05A-49CC-4AEA-A05E-FE2A0104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95B-8D2C-4ED8-8E30-5C318E4B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201-E34A-4E39-ADD3-9884AD0A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9AF7-DAF3-434D-8B5E-2557BC599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owerpoint 97 Embedded OLE Object Cleaner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048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lease run this presenation and click inside of this text box to start. Alternatively, you can chose TOOLS | MAROS | MACRO... and run the Start ma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17:12:48Z</dcterms:created>
  <dc:creator>AVERT, a Division of NAI Labs</dc:creator>
  <dc:description>Powerpoint 97 Embedded OLE Object Cleaner 1.1
(C) 1999 Network Associates, Inc.
AVERT, a Division of NAI Labs
Feedback? mailto:virus_research_de@nai.com</dc:description>
  <dc:language>en-US</dc:language>
  <cp:lastModifiedBy>NAI</cp:lastModifiedBy>
  <dcterms:modified xsi:type="dcterms:W3CDTF">1999-08-17T08:02:30Z</dcterms:modified>
  <cp:revision>330</cp:revision>
  <dc:subject/>
  <dc:title>Powerpoint 97 Embedded OLE Object Cleaner 1.1</dc:title>
</cp:coreProperties>
</file>