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8F66-D743-490F-BF0A-68E730883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21E1-3AAD-4033-B786-F2D7DC681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947A-7D60-48C4-AB75-6B448B5D8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496E-958F-4E9A-8D7E-3415E478B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9563-DE3C-43C7-8CCE-9D551CF4A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C403-3488-4A23-9B2F-755459748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015E-C482-41C2-9657-DC601143C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9831-429E-46F2-B0C5-C12292B12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80BA-2B0A-41C7-B86C-33A441EFD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3AA8-6E52-4203-B3F1-AD712F88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801A-51BE-4574-98CE-4EFA3F769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63AF-DFFA-413E-AD15-EB158791D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64204-0268-4645-894F-DE8B7B0E78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5280" y="1295280"/>
            <a:ext cx="6934320" cy="4800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you are infected with Tristate, run the new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rusScan to disinfect the infected Word and Exc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cuments and spreadshee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run the Tristate PowerPoint remo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gram, choose the Tools menu, click Macr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n choose the Macros sub-men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oose the macro “Disinfect”, then cl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n”. Or, start this slideshow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304920"/>
            <a:ext cx="678168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werPoint Tristate Remover v1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5T02:54:08Z</dcterms:created>
  <dc:creator>Avert</dc:creator>
  <dc:description/>
  <dc:language>en-US</dc:language>
  <cp:lastModifiedBy>Avert</cp:lastModifiedBy>
  <dcterms:modified xsi:type="dcterms:W3CDTF">1999-01-05T03:52:24Z</dcterms:modified>
  <cp:revision>2</cp:revision>
  <dc:subject/>
  <dc:title>No Slide Title</dc:title>
</cp:coreProperties>
</file>