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BD9-D186-412F-AE92-4F7F54CE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E48-008A-4D7B-AB98-1AA9D46B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835F-9D2A-4111-8676-4B10C8DF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0381-0CEC-4262-8003-37D020F6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2F8-CFA6-40F4-A620-AD685377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400-A4B1-42E8-9C71-E02A7712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F1D-970A-475A-B55E-8EE12D15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712-2189-4890-A8EA-4AC7FE2A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511-6A38-4F4C-B7CA-BF88056D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F14-2EFA-453D-9D53-23E3296B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26E-19BE-4A96-B029-28C7A70B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C4B-F0A7-46EC-90AC-E52306E1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4EDF-DDA8-4BCF-9F34-FDE3B5B33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owerpoint 97 Embedded OLE Object Cleaner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048120"/>
            <a:ext cx="8458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Read the Whatsnewt.txt file before running this utility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lease run this presenation and click inside of this text box to start. Alternatively, you can chose TOOLS | MAROS | MACRO... and run the Start macro.  To stop the application press Crtl+Br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2T17:12:48Z</dcterms:created>
  <dc:creator>AVERT, a Division of NAI Labs</dc:creator>
  <dc:description>Powerpoint 97 Embedded OLE Object Cleaner 1.2
(C) 1999 Network Associates, Inc.
AVERT, a Division of NAI Labs
Feedback? mailto:virus_research_de@nai.com</dc:description>
  <dc:language>en-US</dc:language>
  <cp:lastModifiedBy>NAI</cp:lastModifiedBy>
  <dcterms:modified xsi:type="dcterms:W3CDTF">1999-09-10T13:20:29Z</dcterms:modified>
  <cp:revision>339</cp:revision>
  <dc:subject/>
  <dc:title>Powerpoint 97 Embedded OLE Object Cleaner 1.2</dc:title>
</cp:coreProperties>
</file>