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654-B19F-4E74-9A2D-61470762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5D35-52F5-4F64-AE1A-1A149B2B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7BE-FF3A-4DB4-B436-B1A46CD8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FEB-5BC2-46C5-B826-F5BE7177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EB3-D4BC-4F06-9F07-234BA60F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88BC-4CD3-44C8-8092-EA8CEB5D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499-058E-4446-8683-C4F35899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4D63-887B-43C0-9EAA-A06F7322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72B-E80F-40FD-9DD1-1D9B52EE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63D-0865-4638-9A68-DB41A85B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728-6E7F-4E08-A904-E9ECD5D6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12E-AF25-4D09-9669-1D474BFF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BF02-A42A-404D-B877-12EC91FD1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owerpoint 97 Embedded OLE Object Cleaner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048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lease run this presenation and click inside of this text box to start. Alternatively, you can chose TOOLS | MAROS | MACRO... and run the Start ma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2T17:12:48Z</dcterms:created>
  <dc:creator>AVERT, a Division of NAI Labs</dc:creator>
  <dc:description>Powerpoint 97 Embedded OLE Object Cleaner 1.1
(C) 1999 Network Associates, Inc.
AVERT, a Division of NAI Labs
Feedback? mailto:virus_research_de@nai.com</dc:description>
  <dc:language>en-US</dc:language>
  <cp:lastModifiedBy>NAI</cp:lastModifiedBy>
  <dcterms:modified xsi:type="dcterms:W3CDTF">1999-08-17T08:02:30Z</dcterms:modified>
  <cp:revision>330</cp:revision>
  <dc:subject/>
  <dc:title>Powerpoint 97 Embedded OLE Object Cleaner 1.1</dc:title>
</cp:coreProperties>
</file>