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EEA-CC37-4B16-9991-4FE14C88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9F5-D4CF-4761-A6CA-D4CDB363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6B4-176E-45B9-9DAA-C88D9B8D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53E-006C-41E8-97BB-576436D3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DA8-07A0-4F35-80A1-14E7F29A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C8B-D54F-4FC4-8022-7CA31F5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6C0C-A591-4BDE-9597-2AE929C2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57A-746B-401D-8A1B-D351CA01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4E3-0D3F-4439-A8DE-0A22E34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E43-3CBC-4117-80CC-7EE66801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8F1-446D-4105-B3EE-0BA15B4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068-2F31-4C0E-B7F2-751593F9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50BF-6924-49FF-B0E7-9A017CF14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1295280"/>
            <a:ext cx="6934320" cy="4800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are infected with Tristate, run the ne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usScan to disinfect the infected Word and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s and spreadshe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run the Tristate PowerPoint rem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, choose the Tools menu, click Macr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choose the Macros sub-men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the macro “Disinfect”, then 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”. Or, start this slideshow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04920"/>
            <a:ext cx="67816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Point Tristate Remover v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02:54:08Z</dcterms:created>
  <dc:creator>Avert</dc:creator>
  <dc:description/>
  <dc:language>en-US</dc:language>
  <cp:lastModifiedBy>Avert</cp:lastModifiedBy>
  <dcterms:modified xsi:type="dcterms:W3CDTF">1999-01-05T03:52:24Z</dcterms:modified>
  <cp:revision>2</cp:revision>
  <dc:subject/>
  <dc:title>No Slide Title</dc:title>
</cp:coreProperties>
</file>