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9E5-2558-4045-AD7C-05C49660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C70-1743-4604-811B-5FA40F1D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02D-B299-4C05-A034-2014B10D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140-88FC-45D1-B872-5C6C01E8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205-A5D3-434C-87DB-6CD9827F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99F-877F-45AB-8A96-14C50B88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CF7-665A-47B8-B512-EF15438B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6F2-7902-4749-B1F6-1D3C97A9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3D1-8188-4151-9E20-96E09C43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72B-D99F-42D5-9A4F-9D008BD6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015-21C5-4E1B-A692-587E4403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280-0E1A-4120-B5D4-6D240C2F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FB7D-88B1-4CBA-9170-E6BD73E4E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owerpoint 97 Embedded OLE Object Cleaner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048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lease run this presenation and click inside of this text box to start. Alternatively, you can chose TOOLS | MAROS | MACRO... and run the Start ma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2T17:12:48Z</dcterms:created>
  <dc:creator>AVERT, a Division of NAI Labs</dc:creator>
  <dc:description>Powerpoint 97 Embedded OLE Object Cleaner 1.1
(C) 1999 Network Associates, Inc.
AVERT, a Division of NAI Labs
Feedback? mailto:virus_research_de@nai.com</dc:description>
  <dc:language>en-US</dc:language>
  <cp:lastModifiedBy>NAI</cp:lastModifiedBy>
  <dcterms:modified xsi:type="dcterms:W3CDTF">1999-08-17T08:02:30Z</dcterms:modified>
  <cp:revision>330</cp:revision>
  <dc:subject/>
  <dc:title>Powerpoint 97 Embedded OLE Object Cleaner 1.1</dc:title>
</cp:coreProperties>
</file>